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767-987F-4CBD-B316-C266C573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817-96D4-40AC-A855-BAE7EE68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BF8-C3FE-424C-88DC-B3E44D1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1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5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7672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71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5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F26-3A99-4472-938D-41AE85D1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536-DD1A-4939-888F-C63B700C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33F6-F6BF-4244-AB8C-DFDBAA8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3A7-194A-4784-80CD-31E178E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50A3-F5B8-4600-B153-FB26B4E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11D-6274-4922-8853-EEE5F22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3B9-D87D-40DE-AC71-54EC31FB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2595-C417-4690-9CF9-B240A7E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905-C4EB-438F-9849-D3CFABF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3753-38F7-47B8-946B-26F9A61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2802-9BC0-4DAF-8BA5-3A74BA1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7207-6510-4ABB-BA2D-5F87D5C6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290-65CC-4E0D-BE70-882EDB44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5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7672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71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5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DE8-3642-447D-AAB7-14544F8B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F99-3826-4CBC-9B14-F101C31F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57C-A37F-4324-A422-6FDAC4E4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43F-C97E-4CE3-957B-17D789B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C5B-E741-475C-BD09-9FF1CCEC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F47-B7A3-4D0F-9A42-FAC29D8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231-7139-4BA1-854B-7455554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7A4-FE91-45C0-B607-795D474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F4C-8A53-4756-BA03-46F6B2CF966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4E3-9142-41B0-8B29-7EBA5D3897B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eated By Tom Palumb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Sept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back in school in my favorite pl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Octo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scary drawings mark my f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Nov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turkey we will all e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Dec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waiting for that holiday tre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heavy snow has me asking for mor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funny Valentine arrives at my do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the wind has such a terrible bi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pri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Warm rain is a welcome deligh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fancy parade with a drumm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un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happy kids getting ready for summ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u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fireworks lighting the night sk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ugus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new bathing suit I have to bu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12:14Z</dcterms:created>
  <dc:creator>Carol Kane</dc:creator>
  <dc:description/>
  <dc:language>en-US</dc:language>
  <cp:lastModifiedBy>Tom Palumbo</cp:lastModifiedBy>
  <dcterms:modified xsi:type="dcterms:W3CDTF">2009-02-26T19:29:44Z</dcterms:modified>
  <cp:revision>5</cp:revision>
  <dc:subject/>
  <dc:title>A Year Full Of Rhymes</dc:title>
</cp:coreProperties>
</file>